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2588-73E5-425D-971D-7D3E29C1D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D477-1F1C-4C11-8F53-62575651C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456-3C2E-493C-B533-0491988F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5947-A754-44BC-B658-3BF7F6D4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AC44-5BAC-4D47-A3F1-9B295A33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19BE-ACD6-4D1E-89C5-CB65EDFF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47269-8320-4DC5-8388-DC0F41A4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05C62-1F9E-4038-84AF-13B9577A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3EF43-0B3D-4DE7-BF51-31493AE8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623F8-FF27-4453-9FD2-6AA33A59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D88CA-D2EB-40D9-913C-4806FCFB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16EE4-012E-4D05-B0D7-EE4E3659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E9B59-9277-481E-85A3-DB2D6E72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835-DC87-491A-9248-4D54D4A4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C3B9A-4610-470E-A100-0F63A510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328D6-9826-415E-983B-AC935C0A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D443D-620C-41DB-9FA3-CD2C2A4B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D3F91-9FEB-4880-8BF1-B1C3D62A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248F3-8E12-4999-8DCE-23DA47B8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EC5-F551-4CC8-B021-1DFBF84F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633-7EA9-4557-929B-A9FD5A8E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3C9-9B6D-4FBA-87CD-16F4F26A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4AEC-0523-47D3-8C90-45558C8B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3FE-EED3-4F1C-81E0-430BC9C5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8622-97D8-4ED4-A3F8-0FFF85A5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CAC-2EAF-4E66-BA57-0AB4CD38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522F-FCAA-44DC-9FBC-6E2D5BD8071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ct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entre for European Policy Studies (CEPS)  • www.ceps.e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75A9-D378-46A3-96C9-F4BA1FD6FE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eps_new-header2010.jpg"/>
          <p:cNvPicPr/>
          <p:nvPr/>
        </p:nvPicPr>
        <p:blipFill>
          <a:blip r:embed="rId2"/>
          <a:srcRect l="0" t="39191" r="0" b="39191"/>
          <a:stretch/>
        </p:blipFill>
        <p:spPr>
          <a:xfrm>
            <a:off x="380880" y="152280"/>
            <a:ext cx="8301240" cy="685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56E4-6FC9-4699-A15E-03B5157AC3A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5D61-9428-4B1F-88F7-C2A6AAEA67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6"/>
          </p:nvPr>
        </p:nvSpPr>
        <p:spPr>
          <a:xfrm>
            <a:off x="1371600" y="6356520"/>
            <a:ext cx="678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</a:rPr>
              <a:t>Centre for European Policy Studies (CEPS) • Place du Congrès 1, 1000 Brussels, Belgium   www.ceps.e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37160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EU-China’s Trade-FDI-Hi-tech policy conundr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Date Placeholder 4"/>
          <p:cNvSpPr/>
          <p:nvPr/>
        </p:nvSpPr>
        <p:spPr>
          <a:xfrm>
            <a:off x="4572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E4E1-A6AE-419B-9473-3B377EAC2A8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1371600" y="6356520"/>
            <a:ext cx="678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06620"/>
                </a:solidFill>
                <a:latin typeface="Arial"/>
              </a:rPr>
              <a:t>Thinking ahead for Europe </a:t>
            </a:r>
            <a:r>
              <a:rPr b="1" lang="en-US" sz="1200" spc="-1" strike="noStrike">
                <a:solidFill>
                  <a:srgbClr val="17375e"/>
                </a:solidFill>
                <a:latin typeface="Arial"/>
              </a:rPr>
              <a:t>• Centre for European Policy Studies (CEPS)  • www.ceps.e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2438280" y="3352680"/>
            <a:ext cx="419112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ook Antiqua"/>
              </a:rPr>
              <a:t>Jacques Pelk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Book Antiqua"/>
              </a:rPr>
              <a:t>CEPS  &amp;  College of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Book Antiqua"/>
              </a:rPr>
              <a:t>CEPS Event on Cybersecurity, Digital and Tech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Book Antiqua"/>
              </a:rPr>
              <a:t>14 May 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858960" y="5800680"/>
            <a:ext cx="809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What can be done about FDI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lf-yearly bilateral meetings on application of China’s new FDI law [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st with trading partners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gular bilaterals on EU screening of FD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porting on ‘investment funds’ with various SOE/ state/provincial/city governments’ invol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nd of course the CAI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ijdelijke aanduiding voor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1102-B6C1-426B-BEA3-A3B382C3B23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entre for European Policy Studies (CEPS)  • www.ceps.e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670D-AA96-40BE-8840-1B7D9D6F57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What about EU Industrial Polic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Strategic choices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[EPSC] about support for broad technologies or industries in EU; EU to do more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ore and targeted funding in pre-commercial st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ight links with single market/EU regulation and global-oriented standardisation; EU to be much better in exploiting the single-market-b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nefit from the Unitary Patent,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keep its quality hi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alogues and possibly cooperation in ten sectors of China 2025, insisting on transparency to begin wi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ijdelijke aanduiding voor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39AE-2C39-4DE4-83D3-A935848C6D2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entre for European Policy Studies (CEPS)  • www.ceps.e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B922-475F-4E15-ABA8-2ECC005807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What can China do before 2025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iven EU’s cooperative and constructive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isibly reward it in non-trivial ways, reach 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ransparency in subsidies and China 2025, yea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nclude the CAI – fully accept ‘national treatment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ork more on standards with EU, is truly globally orien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nsider opening up (tariff peaks, services)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without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a threat-or-tit-for-tat-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ith SOEs crucial for China’s strategy, more Dialo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Joint EU-China leadership in WTO: make it cred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ijdelijke aanduiding voor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931F-3EAC-4FF7-BCFB-A2103E2814C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entre for European Policy Studies (CEPS)  • www.ceps.e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jdelijke aanduiding voor dia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2E7E-552E-4C01-9945-22D60CDA8E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33520" y="1378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                              </a:t>
            </a:r>
            <a:r>
              <a:rPr b="1" lang="en-GB" sz="4800" spc="-1" strike="noStrike">
                <a:solidFill>
                  <a:srgbClr val="000000"/>
                </a:solidFill>
                <a:latin typeface="Book Antiqua"/>
              </a:rPr>
              <a:t>THANK  YO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Date Placeholder 2"/>
          <p:cNvSpPr/>
          <p:nvPr/>
        </p:nvSpPr>
        <p:spPr>
          <a:xfrm>
            <a:off x="4572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DB41-1C1A-4829-A01A-B981F2FA623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4631-38D5-457F-A0F1-41F61A511F6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1371600" y="6356520"/>
            <a:ext cx="678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Centre for European Policy Studies (CEPS) • Place du Congrès 1, 1000 Brussels, Belgium   www.ceps.e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dizzyingly complex policy conundr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ritical policy questions for the 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hat can EU trade policy 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hat can be done about FD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hat about EU industrial polic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hat can China do before 2025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atum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D28E-01AC-408F-B6BE-DD606F46DB8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entre for European Policy Studies (CEPS) • Place du Congrès 1, 1000 Brussels, Belgium   www.ceps.e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AF4E-EEC0-43E9-A0C7-C3BBD3EB57A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3644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Complex policy conund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ven when ignoring the US/China trade w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nd its possible fall-out for the EU, ….al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gnoring Chinese foreign and defence move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olicy conundrum is still extremely compli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hina exploits its [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elf-defined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] “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socialist market economy with Chinese characteristics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”, with layers of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Using a myriad of policy tools, SOEs at home and abroad, regulation, border restrictions, funding, and above all the power over its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huge domestic mar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atum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18D3-833B-4932-A846-93943FDBDBC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entre for European Policy Studies (CEPS) • Place du Congrès 1, 1000 Brussels, Belgium   www.ceps.e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AF39-33CD-486E-BED7-66EAAA79ED6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Complex policy conundrum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othing is what it seems in Ch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verage tariffs are now low, but with more than 900 8-digits peaks in clothing, it is not adjusting swif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For EU comparative advantage goods [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ars, various machinery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], 339 peaks throttle EU exports,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ften above 20 %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 lot of discussion on Chinese standards, but… China does not have ‘standardisation bodies’ [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nex TBT Agr.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nterprise standards’ (a business secret, at times) had to be reported (!) until the 2017 new la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FDI laws still distinguish ‘foreign’ and Chinese firms; pushing for ‘national treatment’ disrupts the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ijdelijke aanduiding voor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29CE-F713-4020-BFCA-81FFB9E4485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entre for European Policy Studies (CEPS)  • www.ceps.e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5899-6E51-44DC-BA61-FADA1084ED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Complex policy conundrum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though China is now roughly economic size of U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U FDI stock in US is over 13 X EU FDI in China, due to restrictiveness….and a ban on profit repatr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hinese 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market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economy more than 200.000 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privat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firms with CCP boardmember, with clear instru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ossibly, CAI [BIT] with China might be accomplished in 2020, but there will be no easy legal recourse, s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 (large) subsidies, notifications, SOEs and public procurement, China’s WTO membership is a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l of this w’out talking about ‘forced tech transfer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+  ‘fog’ over 100s of ‘investment funds’,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at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 many w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5C28-C912-4D24-927F-D30BA806E17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entre for European Policy Studies (CEPS)  • www.ceps.e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dia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CF58-4F6D-4831-804F-68554B4756E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Critical policy questions for the E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s the hi-tech industrial policy in China (since 2003) unique in GATT/WTO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hat of its features are objection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ow can they best be addressed by EU alone or with oth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hat can China do, in cooperation with the EU and/or in other international cooper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atum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1C59-810E-49CA-B153-620BDD39210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entre for European Policy Studies (CEPS) • Place du Congrès 1, 1000 Brussels, Belgium   www.ceps.e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6DCE-1718-4F25-BFAA-6CB68929E6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Tentative answers fir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hina’s hi-tech strategy is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entirely un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ut its wide scope [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10 sectors !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], tight control and aggressive employment of resources probably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US military-industrial complex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 once an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o was the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GSM strategy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Europe (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nce 1982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SM strategy took ten years and was run by SOEs: the MS telecoms companies and their laborat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otal investment huge: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qual to putting a man on the mo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nd-in-glove with EU +MS, frequencies, test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obody even thought of going to the GATT, but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patent pool, exclusion if not ‘invested’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[Japan, Korea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jdelijke aanduiding voor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9FB9-5672-4287-AA8B-2292098CBCC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entre for European Policy Studies (CEPS)  • www.ceps.e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7FE3-347C-430B-8743-C9E12B9421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Tentative answers first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hinese approach is holistic, almost anything go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the framework of ‘Chinese characteristics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ingle Chinese market protected carefully, esp. b/c that eventually provides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critical scale benefi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assive funding on an impressive scale, but exactly how impressive nobody knows [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oor or no reporting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2015 another 300 (!!) ‘investment funds’ ad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ften prohibited foreign FDI or restricted (JVs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hinese enterprise networks/mergers SOEs [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ML ignored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elective ‘forced tech transfer’, spying &amp; acquisitions in RoW  for tech-transfer to Chinese domestic mar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ijdelijke aanduiding voor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DBA5-5A74-4B4D-BB70-B6F5D5AADDA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entre for European Policy Studies (CEPS)  • www.ceps.e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jdelijke aanduiding voor dia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5683-D5F3-4379-BC8B-0D6053D8274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What can EU trade policy do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Multilateral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attach consequences to non-notification ; rule out the most trade-distorting subsidies ; play out the submitted cases (e.g. tech transfer); strict adherence to 2001 Protocol, with consequences ;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ut als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gage 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with China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 acclaimed ‘leadership’) in WTO reform such as App. Body, Spec &amp; Diff Treatment (graduation), and new plurilaterals in e-commerce, as well as suspended TiSA, and at long last, the GPA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Bilateral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th a 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constructiv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approach via Dialogues (EU/China has nearly 60, all relevant subjects are in), greater participation in R &amp; D, no exclusion in standard-setting, opening up services in earnest, finishing the CAI within one year ; and a 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conditional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approach on digital/data (with consequences), tougher on lack-of-LPF in the B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Unilateral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rade-defence instruments, esp.  CVD on subsidies ; proper but firm application of FDI scre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A2E7-0CC0-435B-A974-78BDD5D3556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entre for European Policy Studies (CEPS)  • www.ceps.e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FE08-7879-4729-9F56-F2ED0EE823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4:56:22Z</dcterms:created>
  <dc:creator>katharina</dc:creator>
  <dc:description/>
  <dc:language>en-US</dc:language>
  <cp:lastModifiedBy>Anne-Marie Boudou</cp:lastModifiedBy>
  <cp:lastPrinted>2019-05-13T18:32:38Z</cp:lastPrinted>
  <dcterms:modified xsi:type="dcterms:W3CDTF">2019-06-11T10:21:19Z</dcterms:modified>
  <cp:revision>111</cp:revision>
  <dc:subject/>
  <dc:title>Slide 1</dc:title>
</cp:coreProperties>
</file>